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8301-849B-461A-A968-C4F73C744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252C-9377-416C-828A-AE3C978A5DDA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71AE-AB69-4CF4-A7F6-B3812CF4E51B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ues often appear on the top or bottom of a page, or in menu bars and frames.  These sections often contain authorship clu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17BA-40F7-4FCA-B2E3-0D07A59C4C8B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lling and grammatical errors are important clues that a site ought to be avoided as a source.  Be on the lookout for information that just doe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l right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FD7F-0E9A-43C4-B908-3EFE13D7FC54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50E3-4382-4F9E-A03C-C46337422A74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give examples of when it would be more or less important to have your site be current?  Is it important that an author keep a site maintain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A8D7-A9A8-4A17-A69A-AFBE49869F11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ery suspicious of information that appears out of nowhere.  Unless this is a completely original source some documentation ought to be present for you to take the page seri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8597-4F39-4E55-82AB-A0EC2D898B75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A7BB-ABCD-468D-98F8-3D3EFE237547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various reasons people choose to publish on the Web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Web publishing different from traditional print--book, magazine, newspaper--publishing?  Who filtered (or selected) those resources for qual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5797-F262-4CF3-B0E9-7B467CC810E9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old days, we had good old print to rely on.  Books and magazines still go through a filtering process for quality.  Before they are published, they are double-checked by authors and edited for accuracy by a variety of professionals.  This is nOT the case with material on the free Web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1FEF-1C11-49F0-81BA-A71D645254BB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8C66-B643-4586-BACB-6D123B69121D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iscover an author has a Ph.D.  Do you need to investigate any further? What if her degree is in physics and the site she wrote is on Shakespe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verything on Geocities bad?  Would your teacher question you citing a source that resided on a free server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B46E-20C4-4525-BC07-E122ED6F4BA5}" type="slidenum">
              <a:rPr b="0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often it is difficult to find information about authorship.  That may be a clue in itself.  However, if you really want to use a page, do not give up!  You may have to dig a little deeper to establish a pag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uthorit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401-B815-4349-9D77-CD6E4FF4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072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5116-C581-47E3-A416-AEECB6FD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3940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A33-F800-48C4-A822-7BF1E083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39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371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907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39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371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B51-1D99-478E-91CE-CCC4E6B7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D6A8-FD5F-40CB-815F-6D53142C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78E2-E83E-4587-B2FF-9B2E2258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7D0A-25F6-4436-B2EE-3D0E36EE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ACE9-A385-4481-8214-1E57A6A4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3303-5DE6-4DD8-AF6F-F09BA307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6933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B8A3-EF59-4BB1-A811-2AF3F677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90B5-3974-4267-9F31-720D35F1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E00-1445-4F9D-8329-1464965B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940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D339-2449-4E8D-A352-BF4E1D63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139E-44E7-4E1D-B0AB-8A448B80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43C8-CEC0-4FBE-9372-DC405F52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940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BD94-B411-4C49-954A-0CC45872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39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371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39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371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FEE8-9527-4296-B224-4E4ADD8C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EDF-8338-40A7-8984-433279E8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ABD-32DD-4ED4-B5C6-1AB192EF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D59-5E7F-47E1-9F20-BE8A1A7F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6933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0A5-37A5-4816-811D-97881A09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80F-674A-4EA5-A349-6C38D203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3940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42FD-ED08-42B9-83EA-2351FC23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4F7-2A42-42D5-AD30-A9DE45E7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 flipV="1" rot="16200000">
            <a:off x="4456440" y="6361200"/>
            <a:ext cx="306360" cy="685800"/>
          </a:xfrm>
          <a:custGeom>
            <a:avLst/>
            <a:gdLst/>
            <a:ahLst/>
            <a:rect l="l" t="t" r="r" b="b"/>
            <a:pathLst>
              <a:path fill="none" w="21675" h="43200">
                <a:moveTo>
                  <a:pt x="75" y="-1"/>
                </a:moveTo>
                <a:cubicBezTo>
                  <a:pt x="12004" y="0"/>
                  <a:pt x="21675" y="9670"/>
                  <a:pt x="21675" y="21600"/>
                </a:cubicBezTo>
                <a:cubicBezTo>
                  <a:pt x="21675" y="33529"/>
                  <a:pt x="12004" y="43200"/>
                  <a:pt x="75" y="43200"/>
                </a:cubicBezTo>
                <a:cubicBezTo>
                  <a:pt x="49" y="43199"/>
                  <a:pt x="24" y="43199"/>
                  <a:pt x="-1" y="43199"/>
                </a:cubicBezTo>
              </a:path>
              <a:path stroke="0" w="21675" h="43200">
                <a:moveTo>
                  <a:pt x="75" y="-1"/>
                </a:moveTo>
                <a:cubicBezTo>
                  <a:pt x="12004" y="0"/>
                  <a:pt x="21675" y="9670"/>
                  <a:pt x="21675" y="21600"/>
                </a:cubicBezTo>
                <a:cubicBezTo>
                  <a:pt x="21675" y="33529"/>
                  <a:pt x="12004" y="43200"/>
                  <a:pt x="75" y="43200"/>
                </a:cubicBezTo>
                <a:cubicBezTo>
                  <a:pt x="49" y="43199"/>
                  <a:pt x="24" y="43199"/>
                  <a:pt x="-1" y="43199"/>
                </a:cubicBezTo>
                <a:lnTo>
                  <a:pt x="75" y="21600"/>
                </a:lnTo>
                <a:lnTo>
                  <a:pt x="75" y="-1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152280"/>
            <a:ext cx="9144000" cy="6629400"/>
            <a:chOff x="0" y="152280"/>
            <a:chExt cx="9144000" cy="6629400"/>
          </a:xfrm>
        </p:grpSpPr>
        <p:sp>
          <p:nvSpPr>
            <p:cNvPr id="2" name="AutoShape 4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>
              <a:off x="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4" name="Group 6"/>
          <p:cNvGrpSpPr/>
          <p:nvPr/>
        </p:nvGrpSpPr>
        <p:grpSpPr>
          <a:xfrm>
            <a:off x="228600" y="76320"/>
            <a:ext cx="8763120" cy="1523880"/>
            <a:chOff x="228600" y="76320"/>
            <a:chExt cx="8763120" cy="1523880"/>
          </a:xfrm>
        </p:grpSpPr>
        <p:sp>
          <p:nvSpPr>
            <p:cNvPr id="5" name="AutoShape 7"/>
            <p:cNvSpPr/>
            <p:nvPr/>
          </p:nvSpPr>
          <p:spPr>
            <a:xfrm>
              <a:off x="228600" y="763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>
              <a:off x="4724280" y="763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609480" y="1522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62320" y="64008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A710-2F48-4AAE-9671-717744226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76320"/>
            <a:ext cx="9144000" cy="6705360"/>
            <a:chOff x="0" y="76320"/>
            <a:chExt cx="9144000" cy="6705360"/>
          </a:xfrm>
        </p:grpSpPr>
        <p:sp>
          <p:nvSpPr>
            <p:cNvPr id="50" name="AutoShape 3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0" y="76320"/>
              <a:ext cx="4114800" cy="670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228600" y="2590920"/>
            <a:ext cx="8763120" cy="1523880"/>
            <a:chOff x="228600" y="2590920"/>
            <a:chExt cx="8763120" cy="1523880"/>
          </a:xfrm>
        </p:grpSpPr>
        <p:sp>
          <p:nvSpPr>
            <p:cNvPr id="53" name="AutoShape 6"/>
            <p:cNvSpPr/>
            <p:nvPr/>
          </p:nvSpPr>
          <p:spPr>
            <a:xfrm>
              <a:off x="228600" y="25909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 flipH="1">
              <a:off x="4724280" y="25909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609480" y="26668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5142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FC74-819C-4C1D-A5F2-2DF2323D753F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Arial"/>
              </a:rPr>
              <a:t>Hey there! </a:t>
            </a:r>
            <a:br>
              <a:rPr sz="6000"/>
            </a:br>
            <a:r>
              <a:rPr b="0" lang="en-US" sz="6000" spc="-1" strike="noStrike">
                <a:solidFill>
                  <a:srgbClr val="6600cc"/>
                </a:solidFill>
                <a:latin typeface="Arial"/>
              </a:rPr>
              <a:t>Have you evaluated?</a:t>
            </a:r>
            <a:endParaRPr b="0" lang="en-US" sz="6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48769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 that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od enough to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it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06" name="Picture 6" descr="stk-fgr6"/>
          <p:cNvPicPr/>
          <p:nvPr/>
        </p:nvPicPr>
        <p:blipFill>
          <a:blip r:embed="rId1"/>
          <a:stretch/>
        </p:blipFill>
        <p:spPr>
          <a:xfrm>
            <a:off x="3429000" y="2286000"/>
            <a:ext cx="2381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Look for credibility clues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and phrases to look for: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out us, Who Am I, FAQs, For More, Company Information, Profiles, Our Staff, Hom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 the author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no information other than an e-mail link, write a polite e-mail asking for more information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5943600" y="5405400"/>
            <a:ext cx="9842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87534"/>
                </a:solidFill>
                <a:latin typeface="Wide Lati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CURACY: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315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facts agree with other sources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your knowledge, does the information seem correct?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re appear to be errors on the page (spelling, grammar, facts)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3505320" y="4705200"/>
            <a:ext cx="18237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f1f1d"/>
                </a:solidFill>
                <a:latin typeface="Wide Lati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ABILITY: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source present a particular view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age connected to a group that wants to make you think a certain way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age selling a product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84b81"/>
                </a:solidFill>
                <a:latin typeface="Wide Lati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E: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this information created?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it revised?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dates important to my subject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author of the page stopped maintaining it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e suspicious of undated material.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39" name="Picture 5" descr="desk_calendar_1"/>
          <p:cNvPicPr/>
          <p:nvPr/>
        </p:nvPicPr>
        <p:blipFill>
          <a:blip r:embed="rId1"/>
          <a:stretch/>
        </p:blipFill>
        <p:spPr>
          <a:xfrm>
            <a:off x="3657600" y="4952880"/>
            <a:ext cx="16765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c54ad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CES BEHIND THE TEXT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bibliography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se websites or books real? Have you or your librarian heard of or been able to check them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links did the author choos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hyperlinks reliable, valuabl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links work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67652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What can you 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learn from a URL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forget to check the URL to get a clue about the site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rategy is only a guideline. People can easily purchase domains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URLs as clues to conten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3886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m=commercial sites (vary in their credibility)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gov=U.S. government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rg=organization, often non-profit. Some have strong bias and agend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edu=school or university site (is it K-12? By a student? By a scholar?)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store=retail busines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int=international institutio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95680" y="1752120"/>
            <a:ext cx="38102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c=educational institution (like .edu)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mil=U.S. military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et=networked service provider, Internet administrative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museum=museum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ame=individual Internet user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biz=a busines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pro=professiona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=personal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Remember, the </a:t>
            </a:r>
            <a:r>
              <a:rPr b="0" i="1" lang="en-US" sz="4400" spc="-1" strike="noStrike">
                <a:solidFill>
                  <a:srgbClr val="6600cc"/>
                </a:solidFill>
                <a:latin typeface="Arial"/>
              </a:rPr>
              <a:t>free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 Web is not your only choice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315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use print sources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use Grolier On-line? iConn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heck with your teacher/librarian for advic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Just as you evaluate 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your sources . . .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eacher will evaluate your work based on the quality of the sources you select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carefully.  D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settle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od en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lways counts!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3962520" y="5407200"/>
            <a:ext cx="15238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valuation is important!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arn to be fussy!</a:t>
            </a:r>
            <a:endParaRPr b="0" lang="en-US" sz="66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2925720" cy="29718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3"/>
          <p:cNvSpPr/>
          <p:nvPr/>
        </p:nvSpPr>
        <p:spPr>
          <a:xfrm>
            <a:off x="3733920" y="457200"/>
            <a:ext cx="4876560" cy="2590920"/>
          </a:xfrm>
          <a:prstGeom prst="wedgeRoundRectCallout">
            <a:avLst>
              <a:gd name="adj1" fmla="val -32712"/>
              <a:gd name="adj2" fmla="val 59435"/>
              <a:gd name="adj3" fmla="val 16667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Hmmm.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This one looks good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How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can I tell for sur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It</a:t>
            </a:r>
            <a:r>
              <a:rPr b="0" lang="ja-JP" sz="4400" spc="-1" strike="noStrike">
                <a:solidFill>
                  <a:srgbClr val="6600cc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s okay to be confused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315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billions of websites out ther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m are not good for report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very hard to tell the good from the bad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Web authors d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want you to understand the differenc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11" name="Picture 4" descr="images"/>
          <p:cNvPicPr/>
          <p:nvPr/>
        </p:nvPicPr>
        <p:blipFill>
          <a:blip r:embed="rId1"/>
          <a:stretch/>
        </p:blipFill>
        <p:spPr>
          <a:xfrm>
            <a:off x="7620120" y="304920"/>
            <a:ext cx="11998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8951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one can publish anyt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Web!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is your job, as a researcher, to look for quality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029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In the old days, we had good old print to rely on.  Books, newspapers, and magazines still go through a filtering process for quality.  Before they are published, they are double-checked by authors and edited for accuracy by a variety of professionals.  This is NOT the case with material on the free Web. 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219320" y="609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1295640" cy="1133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3581280" y="22860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"/>
          <p:cNvPicPr/>
          <p:nvPr/>
        </p:nvPicPr>
        <p:blipFill>
          <a:blip r:embed="rId3"/>
          <a:stretch/>
        </p:blipFill>
        <p:spPr>
          <a:xfrm>
            <a:off x="6629400" y="152280"/>
            <a:ext cx="13716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5410080" cy="32004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/>
          <p:cNvSpPr/>
          <p:nvPr/>
        </p:nvSpPr>
        <p:spPr>
          <a:xfrm>
            <a:off x="609480" y="1676520"/>
            <a:ext cx="3200400" cy="1904760"/>
          </a:xfrm>
          <a:prstGeom prst="wedgeEllipseCallout">
            <a:avLst>
              <a:gd name="adj1" fmla="val 49601"/>
              <a:gd name="adj2" fmla="val 85333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Okay, so how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do we know if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a site is good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3276720" y="0"/>
            <a:ext cx="5486400" cy="2743200"/>
          </a:xfrm>
          <a:prstGeom prst="wedgeEllipseCallout">
            <a:avLst>
              <a:gd name="adj1" fmla="val 12268"/>
              <a:gd name="adj2" fmla="val 85763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Yeah, and how can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we be sur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nd"/>
              </a:rPr>
              <a:t>our teacher</a:t>
            </a: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 will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think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i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s good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enough to cite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Think of CARRDS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18b0"/>
                </a:solidFill>
                <a:latin typeface="Wide Lati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IBILITY / AUTHORIT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87534"/>
                </a:solidFill>
                <a:latin typeface="Wide Lati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URAC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Wide Lati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ABILIT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84b81"/>
                </a:solidFill>
                <a:latin typeface="Wide Lati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54ad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CES BEHIND THE TEXT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c18b0"/>
                </a:solidFill>
                <a:latin typeface="Wide Lati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IBILITY / AUTHO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uthored the information and why?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author an expert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ctually published this page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a personal page or is it part of the site belonging to a major institution? (Clues pointing to a personal page: ~ tilde, %, users, members)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3505320" y="4876920"/>
            <a:ext cx="1904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2659320" cy="27100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"/>
          <p:cNvSpPr/>
          <p:nvPr/>
        </p:nvSpPr>
        <p:spPr>
          <a:xfrm>
            <a:off x="838080" y="914400"/>
            <a:ext cx="5181840" cy="3124080"/>
          </a:xfrm>
          <a:prstGeom prst="wedgeEllipseCallout">
            <a:avLst>
              <a:gd name="adj1" fmla="val 46995"/>
              <a:gd name="adj2" fmla="val 83435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But what if I ca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find any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author information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6T00:09:16Z</dcterms:created>
  <dc:creator>Joyce Valenza</dc:creator>
  <dc:description/>
  <dc:language>en-US</dc:language>
  <cp:lastModifiedBy>reading</cp:lastModifiedBy>
  <cp:lastPrinted>2005-11-15T12:14:40Z</cp:lastPrinted>
  <dcterms:modified xsi:type="dcterms:W3CDTF">2015-10-20T17:40:12Z</dcterms:modified>
  <cp:revision>73</cp:revision>
  <dc:subject/>
  <dc:title>Hey there!</dc:title>
</cp:coreProperties>
</file>